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2E32-E93A-491C-AE63-34086427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2AF8-51FD-4E62-97F0-4A5AE4D9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189-14CD-4542-92D6-3E98A2F6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07D6-8E71-4D78-BA1B-6244236C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0185-8FB5-491A-B28D-26D77C30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5DC1-BA0D-477B-9C0F-94009B56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DFE2-C57D-432A-A2BF-804BBBAE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5A4B-AF3A-4B9F-8573-B9073A15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D2CC-DB31-4014-861E-689FECEE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0200-E6D1-4E20-A98C-FFEFD40B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2E4E-C27A-4C94-B223-3EABE302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1A3C-A564-49DB-8799-DE6C2AAC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DEBD-EF46-4C21-B920-185CB581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7078-6924-4B46-8E73-83EDF120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2E9F-4C96-4CFD-AFB2-160E85B6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2D25-40E7-4FD4-9E17-1849BBEE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80F9-0217-4CB3-BDDB-2E591913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B8D-EDF2-4CCA-BE84-4EF7973A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1B57-1CCA-4920-AD1F-C2AEAC27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7B7-3047-4784-B2E4-59B80741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F93C-C110-48CE-8FBF-8A72EFBF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8384-5FF5-4300-AE7C-1DB728C6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451-6E26-4043-8384-8417207F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913A-0807-4A1E-ABB7-1EC54B1A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D584-A765-45CD-BA85-7378670F5DE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8CE7-B742-4E54-B405-AA54865AA7E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Урок по математике в 1 классе с использованием русской народной сказки «Гуси-лебеди».</a:t>
            </a:r>
            <a:br>
              <a:rPr sz="3600"/>
            </a:br>
            <a:br>
              <a:rPr sz="36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Учитель Ерденевской средней школы</a:t>
            </a:r>
            <a:br>
              <a:rPr sz="2400"/>
            </a:b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Лаврухина Татьяна Ивановна</a:t>
            </a:r>
            <a:br>
              <a:rPr sz="24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убежавшие"/>
          <p:cNvPicPr/>
          <p:nvPr/>
        </p:nvPicPr>
        <p:blipFill>
          <a:blip r:embed="rId1"/>
          <a:stretch/>
        </p:blipFill>
        <p:spPr>
          <a:xfrm>
            <a:off x="1763640" y="0"/>
            <a:ext cx="59770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1763640" y="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Взяла девочка братца и побежала домо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File0414"/>
          <p:cNvPicPr/>
          <p:nvPr/>
        </p:nvPicPr>
        <p:blipFill>
          <a:blip r:embed="rId1"/>
          <a:stretch/>
        </p:blipFill>
        <p:spPr>
          <a:xfrm>
            <a:off x="1476360" y="-458640"/>
            <a:ext cx="6481800" cy="7316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1258920" y="260280"/>
            <a:ext cx="6912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Ответь на вопрос – спряч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а какие два слагаемых можно разложить числа 8 и 7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азови число, следующее в ряду за числом 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азови число, идущее при счете перед числом 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File0415"/>
          <p:cNvPicPr/>
          <p:nvPr/>
        </p:nvPicPr>
        <p:blipFill>
          <a:blip r:embed="rId1"/>
          <a:stretch/>
        </p:blipFill>
        <p:spPr>
          <a:xfrm>
            <a:off x="1619280" y="0"/>
            <a:ext cx="6192720" cy="75722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1692360" y="3573360"/>
            <a:ext cx="6264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Реши мою задачу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тогда спряч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Задач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од яблоней лежал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 яблока. С дерева упал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еще 4 яблок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колько всего яблок лежит под яблоней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File0416"/>
          <p:cNvPicPr/>
          <p:nvPr/>
        </p:nvPicPr>
        <p:blipFill>
          <a:blip r:embed="rId1"/>
          <a:stretch/>
        </p:blipFill>
        <p:spPr>
          <a:xfrm>
            <a:off x="2050920" y="0"/>
            <a:ext cx="538344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324000" y="189000"/>
            <a:ext cx="8820000" cy="63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тветь на вопросы - спряч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азови число, которое на 1 больше, чем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азови число, которое на 1 меньше, чем 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последняя"/>
          <p:cNvPicPr/>
          <p:nvPr/>
        </p:nvPicPr>
        <p:blipFill>
          <a:blip r:embed="rId1"/>
          <a:stretch/>
        </p:blipFill>
        <p:spPr>
          <a:xfrm>
            <a:off x="1258920" y="-357120"/>
            <a:ext cx="7058160" cy="72151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1285920" y="100008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И жили они долго и счастливо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342200" cy="18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Тема урока: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«Повторение пройденного материала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закрепление знаний нумерации чисел от 1 до 10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закрепление знаний, умений и навыков сложения и вычитания в пределах 10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развитие внимани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развитие логического мышлени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File0418"/>
          <p:cNvPicPr/>
          <p:nvPr/>
        </p:nvPicPr>
        <p:blipFill>
          <a:blip r:embed="rId1"/>
          <a:stretch/>
        </p:blipFill>
        <p:spPr>
          <a:xfrm>
            <a:off x="1198440" y="2214720"/>
            <a:ext cx="7261200" cy="44575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1187280" y="76500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Помните, гуси-лебеди унесли братца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ile0417"/>
          <p:cNvPicPr/>
          <p:nvPr/>
        </p:nvPicPr>
        <p:blipFill>
          <a:blip r:embed="rId1"/>
          <a:stretch/>
        </p:blipFill>
        <p:spPr>
          <a:xfrm>
            <a:off x="1357200" y="0"/>
            <a:ext cx="592956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35280" y="151920"/>
            <a:ext cx="5721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Побежала девочка искать его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File0416"/>
          <p:cNvPicPr/>
          <p:nvPr/>
        </p:nvPicPr>
        <p:blipFill>
          <a:blip r:embed="rId1"/>
          <a:stretch/>
        </p:blipFill>
        <p:spPr>
          <a:xfrm>
            <a:off x="2071800" y="0"/>
            <a:ext cx="538308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"/>
          <p:cNvSpPr/>
          <p:nvPr/>
        </p:nvSpPr>
        <p:spPr>
          <a:xfrm>
            <a:off x="324000" y="189000"/>
            <a:ext cx="882000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Карточка №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азовите число, которое меньше 4, но больше 2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Карточка №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азовите число, которое больше 4, но меньше 6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Карточка №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азовите числа от 1 до 10 через одно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File0415"/>
          <p:cNvPicPr/>
          <p:nvPr/>
        </p:nvPicPr>
        <p:blipFill>
          <a:blip r:embed="rId1"/>
          <a:stretch/>
        </p:blipFill>
        <p:spPr>
          <a:xfrm>
            <a:off x="1619280" y="0"/>
            <a:ext cx="6192720" cy="7429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7"/>
          <p:cNvSpPr/>
          <p:nvPr/>
        </p:nvSpPr>
        <p:spPr>
          <a:xfrm>
            <a:off x="1692360" y="4292640"/>
            <a:ext cx="6264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 + … =8        4 + … =7                   … + … =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 - … =7        6 - …=2                    … - …=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, 9, 8, 7, 6, 5,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File0414"/>
          <p:cNvPicPr/>
          <p:nvPr/>
        </p:nvPicPr>
        <p:blipFill>
          <a:blip r:embed="rId1"/>
          <a:stretch/>
        </p:blipFill>
        <p:spPr>
          <a:xfrm>
            <a:off x="785880" y="0"/>
            <a:ext cx="757224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900000" y="189000"/>
            <a:ext cx="73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Увеличьте каждое число 1, 2, 3, 4, 6, 7, 8 на 2 и назови из них самое большо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Уменьшите каждое число 9, 7, 6,4, 3, 2 на 1 и назовите из них самое маленько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File0413"/>
          <p:cNvPicPr/>
          <p:nvPr/>
        </p:nvPicPr>
        <p:blipFill>
          <a:blip r:embed="rId1"/>
          <a:stretch/>
        </p:blipFill>
        <p:spPr>
          <a:xfrm>
            <a:off x="1763640" y="0"/>
            <a:ext cx="604836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1258920" y="5546880"/>
            <a:ext cx="712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Вдруг видит – стоит избушка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а в избушке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File0412"/>
          <p:cNvPicPr/>
          <p:nvPr/>
        </p:nvPicPr>
        <p:blipFill>
          <a:blip r:embed="rId1"/>
          <a:stretch/>
        </p:blipFill>
        <p:spPr>
          <a:xfrm>
            <a:off x="1908000" y="0"/>
            <a:ext cx="575964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3708360" y="587700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сидит Баба - Я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0:15:35Z</dcterms:created>
  <dc:creator>guest</dc:creator>
  <dc:description/>
  <dc:language>en-US</dc:language>
  <cp:lastModifiedBy>Customer</cp:lastModifiedBy>
  <dcterms:modified xsi:type="dcterms:W3CDTF">2009-04-20T15:04:41Z</dcterms:modified>
  <cp:revision>7</cp:revision>
  <dc:subject/>
  <dc:title>Урок по математике в 1 классе с использованием русской народной сказки «Гуси-лебеди».                Учитель Ердене    </dc:title>
</cp:coreProperties>
</file>