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330-5398-43A1-B37F-3A7E963D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AB6-84FF-4520-8AB6-12CD772A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4A6-790B-4E3B-8377-86756F31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FBC-E4C6-49DC-9E03-7BEBFDBB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62D4-D0B4-4DE0-8D3D-6DCBA40F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149B-563E-4F9B-A87B-EEF8E646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B910-C36E-456F-BCAC-B438783C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3819-DB41-4E37-86A9-F59E72F1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15D2-6FC8-4B78-9488-27564417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099E-67FC-473D-94AE-E4E6A002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A73A-A619-4D6A-8B76-81CA9528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67C-F825-466C-B786-DD638842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8B8D-8BA1-4934-ABD4-9D9F635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C918-5FC2-44B8-82D0-6BE8AD36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B158-501D-4991-BD7A-546C2D42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291A-D90C-44E6-9FFC-6FBAA2FC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A3F3-3C12-4C5A-A58F-DA90557A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0E8-9272-4007-B1C7-A3325234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29A-5A99-4A41-A4AF-9A523B16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229-5BA6-4C5A-B117-E7A349AA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E52-832F-47BD-9D8F-6A66F634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A15-6787-4AC4-80A2-29EB8757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387-E3F6-434F-ACEB-4AC133EC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B71-A566-4164-B264-3FD3BBB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87B4-319F-41BC-946E-1A2F79CDC51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4347-AE74-4C37-BCA1-C5A8C931926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Урок по математике в 1 классе с использованием русской народной сказки «Гуси-лебеди».</a:t>
            </a:r>
            <a:br>
              <a:rPr sz="3600"/>
            </a:br>
            <a:br>
              <a:rPr sz="36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Учитель Ерденевской средней школы</a:t>
            </a:r>
            <a:br>
              <a:rPr sz="2400"/>
            </a:b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Лаврухина Татьяна Ивановна</a:t>
            </a:r>
            <a:br>
              <a:rPr sz="24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убежавшие"/>
          <p:cNvPicPr/>
          <p:nvPr/>
        </p:nvPicPr>
        <p:blipFill>
          <a:blip r:embed="rId1"/>
          <a:stretch/>
        </p:blipFill>
        <p:spPr>
          <a:xfrm>
            <a:off x="176364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763640" y="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Взяла девочка братца и побежала домо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ile0414"/>
          <p:cNvPicPr/>
          <p:nvPr/>
        </p:nvPicPr>
        <p:blipFill>
          <a:blip r:embed="rId1"/>
          <a:stretch/>
        </p:blipFill>
        <p:spPr>
          <a:xfrm>
            <a:off x="1476360" y="-458640"/>
            <a:ext cx="6481800" cy="7316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1258920" y="260280"/>
            <a:ext cx="6912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Ответь на вопрос – спряч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 какие два слагаемых можно разложить числа 8 и 7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 число, следующее в ряду за числом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 число, идущее при счете перед числом 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ile0415"/>
          <p:cNvPicPr/>
          <p:nvPr/>
        </p:nvPicPr>
        <p:blipFill>
          <a:blip r:embed="rId1"/>
          <a:stretch/>
        </p:blipFill>
        <p:spPr>
          <a:xfrm>
            <a:off x="1619280" y="0"/>
            <a:ext cx="6192720" cy="75722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692360" y="3573360"/>
            <a:ext cx="6264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Реши мою задачу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тогда спряч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д яблоней лежал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 яблока. С дерева упал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еще 4 яблок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колько всего яблок лежит под яблоней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ile0416"/>
          <p:cNvPicPr/>
          <p:nvPr/>
        </p:nvPicPr>
        <p:blipFill>
          <a:blip r:embed="rId1"/>
          <a:stretch/>
        </p:blipFill>
        <p:spPr>
          <a:xfrm>
            <a:off x="2050920" y="0"/>
            <a:ext cx="538344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324000" y="189000"/>
            <a:ext cx="8820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тветь на вопросы - спряч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 число, которое на 1 больше, чем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 число, которое на 1 меньше, чем 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последняя"/>
          <p:cNvPicPr/>
          <p:nvPr/>
        </p:nvPicPr>
        <p:blipFill>
          <a:blip r:embed="rId1"/>
          <a:stretch/>
        </p:blipFill>
        <p:spPr>
          <a:xfrm>
            <a:off x="1258920" y="-357120"/>
            <a:ext cx="7058160" cy="7215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1285920" y="100008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И жили они долго и счастливо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342200" cy="18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ема урока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«Повторение пройденного материала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закрепление знаний нумерации чисел от 1 до 1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закрепление знаний, умений и навыков сложения и вычитания в пределах 1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звитие внима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звитие логического мышле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File0418"/>
          <p:cNvPicPr/>
          <p:nvPr/>
        </p:nvPicPr>
        <p:blipFill>
          <a:blip r:embed="rId1"/>
          <a:stretch/>
        </p:blipFill>
        <p:spPr>
          <a:xfrm>
            <a:off x="1198440" y="2214720"/>
            <a:ext cx="7261200" cy="4457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1187280" y="765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Помните, гуси-лебеди унесли братц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ile0417"/>
          <p:cNvPicPr/>
          <p:nvPr/>
        </p:nvPicPr>
        <p:blipFill>
          <a:blip r:embed="rId1"/>
          <a:stretch/>
        </p:blipFill>
        <p:spPr>
          <a:xfrm>
            <a:off x="1357200" y="0"/>
            <a:ext cx="592956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5721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Побежала девочка искать его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File0416"/>
          <p:cNvPicPr/>
          <p:nvPr/>
        </p:nvPicPr>
        <p:blipFill>
          <a:blip r:embed="rId1"/>
          <a:stretch/>
        </p:blipFill>
        <p:spPr>
          <a:xfrm>
            <a:off x="2071800" y="0"/>
            <a:ext cx="53830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324000" y="189000"/>
            <a:ext cx="88200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арточка №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те число, которое меньше 4, но больше 2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арточка №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те число, которое больше 4, но меньше 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арточка №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те числа от 1 до 10 через одн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ile0415"/>
          <p:cNvPicPr/>
          <p:nvPr/>
        </p:nvPicPr>
        <p:blipFill>
          <a:blip r:embed="rId1"/>
          <a:stretch/>
        </p:blipFill>
        <p:spPr>
          <a:xfrm>
            <a:off x="1619280" y="0"/>
            <a:ext cx="6192720" cy="7429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1692360" y="4292640"/>
            <a:ext cx="62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 + … =8        4 + … =7                   … + … =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 - … =7        6 - …=2                    … - …=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, 9, 8, 7, 6, 5,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ile0414"/>
          <p:cNvPicPr/>
          <p:nvPr/>
        </p:nvPicPr>
        <p:blipFill>
          <a:blip r:embed="rId1"/>
          <a:stretch/>
        </p:blipFill>
        <p:spPr>
          <a:xfrm>
            <a:off x="785880" y="0"/>
            <a:ext cx="7572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900000" y="18900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Увеличьте каждое число 1, 2, 3, 4, 6, 7, 8 на 2 и назови из них самое больш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Уменьшите каждое число 9, 7, 6,4, 3, 2 на 1 и назовите из них самое маленьк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ile0413"/>
          <p:cNvPicPr/>
          <p:nvPr/>
        </p:nvPicPr>
        <p:blipFill>
          <a:blip r:embed="rId1"/>
          <a:stretch/>
        </p:blipFill>
        <p:spPr>
          <a:xfrm>
            <a:off x="1763640" y="0"/>
            <a:ext cx="60483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258920" y="5546880"/>
            <a:ext cx="71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Вдруг видит – стоит избушк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а в избушке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File0412"/>
          <p:cNvPicPr/>
          <p:nvPr/>
        </p:nvPicPr>
        <p:blipFill>
          <a:blip r:embed="rId1"/>
          <a:stretch/>
        </p:blipFill>
        <p:spPr>
          <a:xfrm>
            <a:off x="1908000" y="0"/>
            <a:ext cx="575964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3708360" y="5877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идит Баба - Я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0:15:35Z</dcterms:created>
  <dc:creator>guest</dc:creator>
  <dc:description/>
  <dc:language>en-US</dc:language>
  <cp:lastModifiedBy>Customer</cp:lastModifiedBy>
  <dcterms:modified xsi:type="dcterms:W3CDTF">2009-04-20T15:04:41Z</dcterms:modified>
  <cp:revision>7</cp:revision>
  <dc:subject/>
  <dc:title>Урок по математике в 1 классе с использованием русской народной сказки «Гуси-лебеди».                Учитель Ердене    </dc:title>
</cp:coreProperties>
</file>