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wmf" ContentType="image/x-wmf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A0CB-AEBB-475E-B1B8-66ED0E32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731C-0E11-4E98-A28D-4FBE4883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CDF-5035-49E0-9159-553453EC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F5A-C38B-4575-AE32-C660DFC1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14E6-56E8-4FDC-9BB0-2F91575A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969E-7A1B-4EF1-8C35-43DAC297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0E0A-3C48-4E91-BBBC-90357217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435C-ADE7-4218-878E-DF79380A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8F83-7E48-4D9C-86AD-8194C6C3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B792-EC86-4C68-B873-4EFDFA2D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D641-EECF-48E8-BC0F-574AA7BA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154-EAFC-4CFE-BEBF-26056A0E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E60F-4E55-4982-A516-E329F00B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28A1-FA9B-4D16-BA83-2C6898D1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04B2-C944-4A3A-BD62-90D6E640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2FBD-F163-4AE0-8E3B-8985EA6B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6A3D-D55C-4A39-8826-4E5C9719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A62-EBB9-4AB6-AC67-DD17C4C6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537-0717-450C-8CC4-1A2FED38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653-2545-4679-9BE4-94BC6EAE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036-4914-483D-B02B-82C16584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E7B0-E56E-4FDD-AB24-47514FC9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4E8-571D-451F-9C38-FA39DAAF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A288-813B-4D17-BDA5-A2CB4660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01BD-0F97-427D-907D-9D28DEB899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86AE-6A42-4660-A96F-86D887A678B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4978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Проворонила </a:t>
            </a: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орона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ороненка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изическая карта Афр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3" descr="map2"/>
          <p:cNvPicPr/>
          <p:nvPr/>
        </p:nvPicPr>
        <p:blipFill>
          <a:blip r:embed="rId1"/>
          <a:srcRect l="1457" t="3033" r="6618" b="1767"/>
          <a:stretch/>
        </p:blipFill>
        <p:spPr>
          <a:xfrm>
            <a:off x="2124000" y="1989000"/>
            <a:ext cx="4608720" cy="4535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3132000" y="2924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АХ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Ink 7"/>
          <p:cNvSpPr/>
          <p:nvPr/>
        </p:nvSpPr>
        <p:spPr>
          <a:xfrm>
            <a:off x="5313240" y="1401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759" y="3894"/>
                </a:moveTo>
                <a:lnTo>
                  <a:pt x="14759" y="3894"/>
                </a:lnTo>
              </a:path>
              <a:path w="1" h="1">
                <a:moveTo>
                  <a:pt x="14759" y="3894"/>
                </a:moveTo>
                <a:lnTo>
                  <a:pt x="14759" y="389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Ink 4"/>
          <p:cNvSpPr/>
          <p:nvPr/>
        </p:nvSpPr>
        <p:spPr>
          <a:xfrm>
            <a:off x="2700360" y="2492280"/>
            <a:ext cx="2901960" cy="1465200"/>
          </a:xfrm>
          <a:custGeom>
            <a:avLst/>
            <a:gdLst/>
            <a:ahLst/>
            <a:rect l="l" t="t" r="r" b="b"/>
            <a:pathLst>
              <a:path w="8063" h="4069">
                <a:moveTo>
                  <a:pt x="11807" y="7218"/>
                </a:moveTo>
                <a:cubicBezTo>
                  <a:pt x="11769" y="7231"/>
                  <a:pt x="11783" y="7234"/>
                  <a:pt x="11733" y="7243"/>
                </a:cubicBezTo>
                <a:cubicBezTo>
                  <a:pt x="11700" y="7249"/>
                  <a:pt x="11667" y="7258"/>
                  <a:pt x="11633" y="7268"/>
                </a:cubicBezTo>
                <a:cubicBezTo>
                  <a:pt x="11573" y="7286"/>
                  <a:pt x="11550" y="7303"/>
                  <a:pt x="11509" y="7317"/>
                </a:cubicBezTo>
                <a:cubicBezTo>
                  <a:pt x="11436" y="7341"/>
                  <a:pt x="11458" y="7334"/>
                  <a:pt x="11410" y="7367"/>
                </a:cubicBezTo>
                <a:cubicBezTo>
                  <a:pt x="11386" y="7384"/>
                  <a:pt x="11346" y="7434"/>
                  <a:pt x="11336" y="7441"/>
                </a:cubicBezTo>
                <a:cubicBezTo>
                  <a:pt x="11303" y="7463"/>
                  <a:pt x="11299" y="7503"/>
                  <a:pt x="11261" y="7516"/>
                </a:cubicBezTo>
                <a:cubicBezTo>
                  <a:pt x="11177" y="7545"/>
                  <a:pt x="11053" y="7507"/>
                  <a:pt x="10964" y="7516"/>
                </a:cubicBezTo>
                <a:cubicBezTo>
                  <a:pt x="10964" y="7342"/>
                  <a:pt x="10964" y="7169"/>
                  <a:pt x="10964" y="6995"/>
                </a:cubicBezTo>
                <a:cubicBezTo>
                  <a:pt x="10733" y="6995"/>
                  <a:pt x="10478" y="7094"/>
                  <a:pt x="10319" y="7094"/>
                </a:cubicBezTo>
                <a:cubicBezTo>
                  <a:pt x="10263" y="7094"/>
                  <a:pt x="10284" y="7070"/>
                  <a:pt x="10244" y="7069"/>
                </a:cubicBezTo>
                <a:cubicBezTo>
                  <a:pt x="10211" y="7068"/>
                  <a:pt x="10203" y="7046"/>
                  <a:pt x="10170" y="7045"/>
                </a:cubicBezTo>
                <a:cubicBezTo>
                  <a:pt x="9990" y="7037"/>
                  <a:pt x="9862" y="7092"/>
                  <a:pt x="9699" y="7144"/>
                </a:cubicBezTo>
                <a:cubicBezTo>
                  <a:pt x="9661" y="7156"/>
                  <a:pt x="9587" y="7165"/>
                  <a:pt x="9575" y="7169"/>
                </a:cubicBezTo>
                <a:cubicBezTo>
                  <a:pt x="9508" y="7193"/>
                  <a:pt x="9501" y="7210"/>
                  <a:pt x="9451" y="7243"/>
                </a:cubicBezTo>
                <a:cubicBezTo>
                  <a:pt x="9430" y="7257"/>
                  <a:pt x="9408" y="7289"/>
                  <a:pt x="9401" y="7293"/>
                </a:cubicBezTo>
                <a:cubicBezTo>
                  <a:pt x="9367" y="7314"/>
                  <a:pt x="9364" y="7352"/>
                  <a:pt x="9327" y="7367"/>
                </a:cubicBezTo>
                <a:cubicBezTo>
                  <a:pt x="9265" y="7391"/>
                  <a:pt x="9144" y="7381"/>
                  <a:pt x="9079" y="7392"/>
                </a:cubicBezTo>
                <a:cubicBezTo>
                  <a:pt x="8973" y="7410"/>
                  <a:pt x="8882" y="7423"/>
                  <a:pt x="8781" y="7441"/>
                </a:cubicBezTo>
                <a:cubicBezTo>
                  <a:pt x="8689" y="7458"/>
                  <a:pt x="8612" y="7446"/>
                  <a:pt x="8533" y="7491"/>
                </a:cubicBezTo>
                <a:cubicBezTo>
                  <a:pt x="8489" y="7516"/>
                  <a:pt x="8502" y="7519"/>
                  <a:pt x="8458" y="7541"/>
                </a:cubicBezTo>
                <a:cubicBezTo>
                  <a:pt x="8436" y="7552"/>
                  <a:pt x="8409" y="7571"/>
                  <a:pt x="8384" y="7590"/>
                </a:cubicBezTo>
                <a:cubicBezTo>
                  <a:pt x="8350" y="7616"/>
                  <a:pt x="8343" y="7631"/>
                  <a:pt x="8310" y="7665"/>
                </a:cubicBezTo>
                <a:cubicBezTo>
                  <a:pt x="8272" y="7704"/>
                  <a:pt x="8270" y="7695"/>
                  <a:pt x="8235" y="7739"/>
                </a:cubicBezTo>
                <a:cubicBezTo>
                  <a:pt x="8212" y="7767"/>
                  <a:pt x="8200" y="7780"/>
                  <a:pt x="8186" y="7813"/>
                </a:cubicBezTo>
                <a:cubicBezTo>
                  <a:pt x="8180" y="7827"/>
                  <a:pt x="8169" y="7848"/>
                  <a:pt x="8161" y="7888"/>
                </a:cubicBezTo>
                <a:cubicBezTo>
                  <a:pt x="8136" y="8008"/>
                  <a:pt x="8161" y="8162"/>
                  <a:pt x="8161" y="8285"/>
                </a:cubicBezTo>
                <a:cubicBezTo>
                  <a:pt x="8063" y="8291"/>
                  <a:pt x="7951" y="8281"/>
                  <a:pt x="7888" y="8310"/>
                </a:cubicBezTo>
                <a:cubicBezTo>
                  <a:pt x="7810" y="8346"/>
                  <a:pt x="7824" y="8325"/>
                  <a:pt x="7764" y="8384"/>
                </a:cubicBezTo>
                <a:cubicBezTo>
                  <a:pt x="7746" y="8402"/>
                  <a:pt x="7711" y="8433"/>
                  <a:pt x="7689" y="8458"/>
                </a:cubicBezTo>
                <a:cubicBezTo>
                  <a:pt x="7659" y="8491"/>
                  <a:pt x="7639" y="8495"/>
                  <a:pt x="7615" y="8533"/>
                </a:cubicBezTo>
                <a:cubicBezTo>
                  <a:pt x="7591" y="8570"/>
                  <a:pt x="7571" y="8603"/>
                  <a:pt x="7565" y="8632"/>
                </a:cubicBezTo>
                <a:cubicBezTo>
                  <a:pt x="7553" y="8691"/>
                  <a:pt x="7560" y="8783"/>
                  <a:pt x="7590" y="8806"/>
                </a:cubicBezTo>
                <a:cubicBezTo>
                  <a:pt x="7616" y="8826"/>
                  <a:pt x="7621" y="8814"/>
                  <a:pt x="7665" y="8830"/>
                </a:cubicBezTo>
                <a:cubicBezTo>
                  <a:pt x="7766" y="8868"/>
                  <a:pt x="7950" y="8830"/>
                  <a:pt x="8062" y="8830"/>
                </a:cubicBezTo>
                <a:cubicBezTo>
                  <a:pt x="8062" y="8958"/>
                  <a:pt x="8041" y="9140"/>
                  <a:pt x="8037" y="9227"/>
                </a:cubicBezTo>
                <a:cubicBezTo>
                  <a:pt x="8027" y="9449"/>
                  <a:pt x="8037" y="9674"/>
                  <a:pt x="8037" y="9897"/>
                </a:cubicBezTo>
                <a:cubicBezTo>
                  <a:pt x="7990" y="9913"/>
                  <a:pt x="7964" y="9906"/>
                  <a:pt x="7938" y="9922"/>
                </a:cubicBezTo>
                <a:cubicBezTo>
                  <a:pt x="7893" y="9949"/>
                  <a:pt x="7843" y="9959"/>
                  <a:pt x="7789" y="9996"/>
                </a:cubicBezTo>
                <a:cubicBezTo>
                  <a:pt x="7765" y="10012"/>
                  <a:pt x="7745" y="10035"/>
                  <a:pt x="7714" y="10071"/>
                </a:cubicBezTo>
                <a:cubicBezTo>
                  <a:pt x="7688" y="10101"/>
                  <a:pt x="7631" y="10100"/>
                  <a:pt x="7615" y="10145"/>
                </a:cubicBezTo>
                <a:cubicBezTo>
                  <a:pt x="7582" y="10237"/>
                  <a:pt x="7618" y="10393"/>
                  <a:pt x="7615" y="10492"/>
                </a:cubicBezTo>
                <a:cubicBezTo>
                  <a:pt x="7719" y="10499"/>
                  <a:pt x="7820" y="10484"/>
                  <a:pt x="7913" y="10517"/>
                </a:cubicBezTo>
                <a:cubicBezTo>
                  <a:pt x="7949" y="10530"/>
                  <a:pt x="7985" y="10518"/>
                  <a:pt x="8012" y="10542"/>
                </a:cubicBezTo>
                <a:cubicBezTo>
                  <a:pt x="8069" y="10593"/>
                  <a:pt x="8033" y="10687"/>
                  <a:pt x="8086" y="10740"/>
                </a:cubicBezTo>
                <a:cubicBezTo>
                  <a:pt x="8116" y="10770"/>
                  <a:pt x="8106" y="10776"/>
                  <a:pt x="8161" y="10815"/>
                </a:cubicBezTo>
                <a:cubicBezTo>
                  <a:pt x="8185" y="10832"/>
                  <a:pt x="8240" y="10855"/>
                  <a:pt x="8260" y="10864"/>
                </a:cubicBezTo>
                <a:cubicBezTo>
                  <a:pt x="8293" y="10879"/>
                  <a:pt x="8343" y="10880"/>
                  <a:pt x="8359" y="10889"/>
                </a:cubicBezTo>
                <a:cubicBezTo>
                  <a:pt x="8372" y="10896"/>
                  <a:pt x="8405" y="10901"/>
                  <a:pt x="8434" y="10914"/>
                </a:cubicBezTo>
                <a:cubicBezTo>
                  <a:pt x="8434" y="10939"/>
                  <a:pt x="8434" y="10947"/>
                  <a:pt x="8458" y="10939"/>
                </a:cubicBezTo>
                <a:cubicBezTo>
                  <a:pt x="8458" y="10807"/>
                  <a:pt x="8450" y="10635"/>
                  <a:pt x="8483" y="10542"/>
                </a:cubicBezTo>
                <a:cubicBezTo>
                  <a:pt x="8508" y="10473"/>
                  <a:pt x="8471" y="10444"/>
                  <a:pt x="8533" y="10393"/>
                </a:cubicBezTo>
                <a:cubicBezTo>
                  <a:pt x="8566" y="10366"/>
                  <a:pt x="8591" y="10357"/>
                  <a:pt x="8632" y="10344"/>
                </a:cubicBezTo>
                <a:cubicBezTo>
                  <a:pt x="8735" y="10311"/>
                  <a:pt x="8825" y="10374"/>
                  <a:pt x="8880" y="10393"/>
                </a:cubicBezTo>
                <a:cubicBezTo>
                  <a:pt x="8930" y="10410"/>
                  <a:pt x="8957" y="10449"/>
                  <a:pt x="9004" y="10468"/>
                </a:cubicBezTo>
                <a:cubicBezTo>
                  <a:pt x="9056" y="10489"/>
                  <a:pt x="9122" y="10470"/>
                  <a:pt x="9153" y="10517"/>
                </a:cubicBezTo>
                <a:cubicBezTo>
                  <a:pt x="9168" y="10539"/>
                  <a:pt x="9162" y="10553"/>
                  <a:pt x="9178" y="10592"/>
                </a:cubicBezTo>
                <a:cubicBezTo>
                  <a:pt x="9199" y="10643"/>
                  <a:pt x="9195" y="10787"/>
                  <a:pt x="9203" y="10815"/>
                </a:cubicBezTo>
                <a:cubicBezTo>
                  <a:pt x="9214" y="10799"/>
                  <a:pt x="9234" y="10791"/>
                  <a:pt x="9252" y="10765"/>
                </a:cubicBezTo>
                <a:cubicBezTo>
                  <a:pt x="9276" y="10730"/>
                  <a:pt x="9343" y="10658"/>
                  <a:pt x="9351" y="10616"/>
                </a:cubicBezTo>
                <a:cubicBezTo>
                  <a:pt x="9376" y="10492"/>
                  <a:pt x="9339" y="10307"/>
                  <a:pt x="9327" y="10220"/>
                </a:cubicBezTo>
                <a:cubicBezTo>
                  <a:pt x="9322" y="10183"/>
                  <a:pt x="9309" y="10196"/>
                  <a:pt x="9302" y="10145"/>
                </a:cubicBezTo>
                <a:cubicBezTo>
                  <a:pt x="9299" y="10121"/>
                  <a:pt x="9307" y="10094"/>
                  <a:pt x="9302" y="10071"/>
                </a:cubicBezTo>
                <a:cubicBezTo>
                  <a:pt x="9313" y="10087"/>
                  <a:pt x="9351" y="10137"/>
                  <a:pt x="9376" y="10170"/>
                </a:cubicBezTo>
                <a:cubicBezTo>
                  <a:pt x="9433" y="10244"/>
                  <a:pt x="9344" y="10312"/>
                  <a:pt x="9500" y="10294"/>
                </a:cubicBezTo>
                <a:cubicBezTo>
                  <a:pt x="9543" y="10289"/>
                  <a:pt x="9534" y="10234"/>
                  <a:pt x="9575" y="10220"/>
                </a:cubicBezTo>
                <a:cubicBezTo>
                  <a:pt x="9605" y="10209"/>
                  <a:pt x="9668" y="10172"/>
                  <a:pt x="9674" y="10170"/>
                </a:cubicBezTo>
                <a:cubicBezTo>
                  <a:pt x="9708" y="10157"/>
                  <a:pt x="9712" y="10125"/>
                  <a:pt x="9748" y="10120"/>
                </a:cubicBezTo>
                <a:cubicBezTo>
                  <a:pt x="9836" y="10108"/>
                  <a:pt x="9910" y="10145"/>
                  <a:pt x="9996" y="10145"/>
                </a:cubicBezTo>
                <a:cubicBezTo>
                  <a:pt x="10013" y="10145"/>
                  <a:pt x="10029" y="10145"/>
                  <a:pt x="10046" y="10145"/>
                </a:cubicBezTo>
                <a:cubicBezTo>
                  <a:pt x="10046" y="10302"/>
                  <a:pt x="10046" y="10459"/>
                  <a:pt x="10046" y="10616"/>
                </a:cubicBezTo>
                <a:cubicBezTo>
                  <a:pt x="10222" y="10601"/>
                  <a:pt x="10379" y="10628"/>
                  <a:pt x="10542" y="10542"/>
                </a:cubicBezTo>
                <a:cubicBezTo>
                  <a:pt x="10563" y="10531"/>
                  <a:pt x="10609" y="10520"/>
                  <a:pt x="10616" y="10517"/>
                </a:cubicBezTo>
                <a:cubicBezTo>
                  <a:pt x="10638" y="10505"/>
                  <a:pt x="10636" y="10445"/>
                  <a:pt x="10641" y="10443"/>
                </a:cubicBezTo>
                <a:cubicBezTo>
                  <a:pt x="10649" y="10440"/>
                  <a:pt x="10682" y="10426"/>
                  <a:pt x="10716" y="10418"/>
                </a:cubicBezTo>
                <a:cubicBezTo>
                  <a:pt x="10848" y="10388"/>
                  <a:pt x="11036" y="10422"/>
                  <a:pt x="11137" y="10393"/>
                </a:cubicBezTo>
                <a:cubicBezTo>
                  <a:pt x="11141" y="10392"/>
                  <a:pt x="11205" y="10354"/>
                  <a:pt x="11237" y="10344"/>
                </a:cubicBezTo>
                <a:cubicBezTo>
                  <a:pt x="11319" y="10319"/>
                  <a:pt x="11401" y="10307"/>
                  <a:pt x="11485" y="10294"/>
                </a:cubicBezTo>
                <a:cubicBezTo>
                  <a:pt x="11570" y="10281"/>
                  <a:pt x="11655" y="10280"/>
                  <a:pt x="11733" y="10269"/>
                </a:cubicBezTo>
                <a:cubicBezTo>
                  <a:pt x="11782" y="10262"/>
                  <a:pt x="11844" y="10248"/>
                  <a:pt x="11906" y="10244"/>
                </a:cubicBezTo>
                <a:cubicBezTo>
                  <a:pt x="12006" y="10238"/>
                  <a:pt x="12158" y="10215"/>
                  <a:pt x="12204" y="10294"/>
                </a:cubicBezTo>
                <a:cubicBezTo>
                  <a:pt x="12231" y="10339"/>
                  <a:pt x="12192" y="10440"/>
                  <a:pt x="12204" y="10492"/>
                </a:cubicBezTo>
                <a:cubicBezTo>
                  <a:pt x="12258" y="10512"/>
                  <a:pt x="12322" y="10553"/>
                  <a:pt x="12378" y="10567"/>
                </a:cubicBezTo>
                <a:cubicBezTo>
                  <a:pt x="12400" y="10573"/>
                  <a:pt x="12486" y="10590"/>
                  <a:pt x="12502" y="10592"/>
                </a:cubicBezTo>
                <a:cubicBezTo>
                  <a:pt x="12641" y="10609"/>
                  <a:pt x="12795" y="10592"/>
                  <a:pt x="12923" y="10567"/>
                </a:cubicBezTo>
                <a:cubicBezTo>
                  <a:pt x="13020" y="10548"/>
                  <a:pt x="13061" y="10523"/>
                  <a:pt x="13122" y="10468"/>
                </a:cubicBezTo>
                <a:cubicBezTo>
                  <a:pt x="13163" y="10431"/>
                  <a:pt x="13140" y="10474"/>
                  <a:pt x="13171" y="10418"/>
                </a:cubicBezTo>
                <a:cubicBezTo>
                  <a:pt x="13183" y="10397"/>
                  <a:pt x="13191" y="10342"/>
                  <a:pt x="13196" y="10319"/>
                </a:cubicBezTo>
                <a:cubicBezTo>
                  <a:pt x="13211" y="10250"/>
                  <a:pt x="13194" y="10166"/>
                  <a:pt x="13196" y="10096"/>
                </a:cubicBezTo>
                <a:cubicBezTo>
                  <a:pt x="13248" y="10089"/>
                  <a:pt x="13353" y="10073"/>
                  <a:pt x="13370" y="10071"/>
                </a:cubicBezTo>
                <a:cubicBezTo>
                  <a:pt x="13427" y="10063"/>
                  <a:pt x="13461" y="10051"/>
                  <a:pt x="13519" y="10046"/>
                </a:cubicBezTo>
                <a:cubicBezTo>
                  <a:pt x="13755" y="10024"/>
                  <a:pt x="13945" y="10076"/>
                  <a:pt x="14163" y="10120"/>
                </a:cubicBezTo>
                <a:cubicBezTo>
                  <a:pt x="14211" y="10130"/>
                  <a:pt x="14264" y="10138"/>
                  <a:pt x="14312" y="10145"/>
                </a:cubicBezTo>
                <a:cubicBezTo>
                  <a:pt x="14345" y="10150"/>
                  <a:pt x="14379" y="10140"/>
                  <a:pt x="14412" y="10145"/>
                </a:cubicBezTo>
                <a:cubicBezTo>
                  <a:pt x="14417" y="10193"/>
                  <a:pt x="14435" y="10307"/>
                  <a:pt x="14436" y="10319"/>
                </a:cubicBezTo>
                <a:cubicBezTo>
                  <a:pt x="14439" y="10392"/>
                  <a:pt x="14458" y="10483"/>
                  <a:pt x="14461" y="10542"/>
                </a:cubicBezTo>
                <a:cubicBezTo>
                  <a:pt x="14465" y="10616"/>
                  <a:pt x="14459" y="10691"/>
                  <a:pt x="14461" y="10765"/>
                </a:cubicBezTo>
                <a:cubicBezTo>
                  <a:pt x="14693" y="10765"/>
                  <a:pt x="14940" y="10760"/>
                  <a:pt x="15156" y="10790"/>
                </a:cubicBezTo>
                <a:cubicBezTo>
                  <a:pt x="15189" y="10794"/>
                  <a:pt x="15197" y="10810"/>
                  <a:pt x="15230" y="10815"/>
                </a:cubicBezTo>
                <a:cubicBezTo>
                  <a:pt x="15254" y="10819"/>
                  <a:pt x="15280" y="10810"/>
                  <a:pt x="15304" y="10815"/>
                </a:cubicBezTo>
                <a:cubicBezTo>
                  <a:pt x="15304" y="10577"/>
                  <a:pt x="15235" y="10129"/>
                  <a:pt x="15329" y="9947"/>
                </a:cubicBezTo>
                <a:cubicBezTo>
                  <a:pt x="15347" y="9913"/>
                  <a:pt x="15357" y="9921"/>
                  <a:pt x="15379" y="9897"/>
                </a:cubicBezTo>
                <a:cubicBezTo>
                  <a:pt x="15418" y="9854"/>
                  <a:pt x="15486" y="9841"/>
                  <a:pt x="15528" y="9798"/>
                </a:cubicBezTo>
                <a:cubicBezTo>
                  <a:pt x="15557" y="9768"/>
                  <a:pt x="15607" y="9771"/>
                  <a:pt x="15627" y="9723"/>
                </a:cubicBezTo>
                <a:cubicBezTo>
                  <a:pt x="15722" y="9492"/>
                  <a:pt x="15590" y="9072"/>
                  <a:pt x="15577" y="8855"/>
                </a:cubicBezTo>
                <a:cubicBezTo>
                  <a:pt x="15573" y="8783"/>
                  <a:pt x="15557" y="8668"/>
                  <a:pt x="15553" y="8632"/>
                </a:cubicBezTo>
                <a:cubicBezTo>
                  <a:pt x="15541" y="8530"/>
                  <a:pt x="15534" y="8482"/>
                  <a:pt x="15503" y="8409"/>
                </a:cubicBezTo>
                <a:cubicBezTo>
                  <a:pt x="15484" y="8365"/>
                  <a:pt x="15482" y="8324"/>
                  <a:pt x="15453" y="8285"/>
                </a:cubicBezTo>
                <a:cubicBezTo>
                  <a:pt x="15429" y="8253"/>
                  <a:pt x="15393" y="8197"/>
                  <a:pt x="15354" y="8161"/>
                </a:cubicBezTo>
                <a:cubicBezTo>
                  <a:pt x="15292" y="8105"/>
                  <a:pt x="15195" y="8084"/>
                  <a:pt x="15131" y="8037"/>
                </a:cubicBezTo>
                <a:cubicBezTo>
                  <a:pt x="15066" y="7989"/>
                  <a:pt x="14994" y="7939"/>
                  <a:pt x="14932" y="7888"/>
                </a:cubicBezTo>
                <a:cubicBezTo>
                  <a:pt x="14893" y="7856"/>
                  <a:pt x="14830" y="7790"/>
                  <a:pt x="14808" y="7764"/>
                </a:cubicBezTo>
                <a:cubicBezTo>
                  <a:pt x="14778" y="7727"/>
                  <a:pt x="14758" y="7669"/>
                  <a:pt x="14734" y="7640"/>
                </a:cubicBezTo>
                <a:cubicBezTo>
                  <a:pt x="14723" y="7697"/>
                  <a:pt x="14725" y="7738"/>
                  <a:pt x="14709" y="7789"/>
                </a:cubicBezTo>
                <a:cubicBezTo>
                  <a:pt x="14692" y="7843"/>
                  <a:pt x="14710" y="7888"/>
                  <a:pt x="14684" y="7938"/>
                </a:cubicBezTo>
                <a:cubicBezTo>
                  <a:pt x="14669" y="7967"/>
                  <a:pt x="14687" y="7993"/>
                  <a:pt x="14660" y="8012"/>
                </a:cubicBezTo>
                <a:cubicBezTo>
                  <a:pt x="14635" y="8030"/>
                  <a:pt x="14629" y="8021"/>
                  <a:pt x="14585" y="8037"/>
                </a:cubicBezTo>
                <a:cubicBezTo>
                  <a:pt x="14334" y="8127"/>
                  <a:pt x="13902" y="8032"/>
                  <a:pt x="13643" y="8062"/>
                </a:cubicBezTo>
                <a:cubicBezTo>
                  <a:pt x="13565" y="8071"/>
                  <a:pt x="13490" y="8082"/>
                  <a:pt x="13419" y="8086"/>
                </a:cubicBezTo>
                <a:cubicBezTo>
                  <a:pt x="13249" y="8096"/>
                  <a:pt x="12938" y="8117"/>
                  <a:pt x="12849" y="8037"/>
                </a:cubicBezTo>
                <a:cubicBezTo>
                  <a:pt x="12818" y="8009"/>
                  <a:pt x="12821" y="7966"/>
                  <a:pt x="12799" y="7938"/>
                </a:cubicBezTo>
                <a:cubicBezTo>
                  <a:pt x="12778" y="7911"/>
                  <a:pt x="12743" y="7849"/>
                  <a:pt x="12725" y="7813"/>
                </a:cubicBezTo>
                <a:cubicBezTo>
                  <a:pt x="12707" y="7776"/>
                  <a:pt x="12727" y="7745"/>
                  <a:pt x="12700" y="7714"/>
                </a:cubicBezTo>
                <a:cubicBezTo>
                  <a:pt x="12678" y="7689"/>
                  <a:pt x="12704" y="7655"/>
                  <a:pt x="12675" y="7640"/>
                </a:cubicBezTo>
                <a:cubicBezTo>
                  <a:pt x="12557" y="7579"/>
                  <a:pt x="12243" y="7640"/>
                  <a:pt x="12105" y="7640"/>
                </a:cubicBezTo>
                <a:cubicBezTo>
                  <a:pt x="12099" y="7607"/>
                  <a:pt x="12082" y="7598"/>
                  <a:pt x="12080" y="7565"/>
                </a:cubicBezTo>
                <a:cubicBezTo>
                  <a:pt x="12075" y="7485"/>
                  <a:pt x="12096" y="7385"/>
                  <a:pt x="12055" y="7342"/>
                </a:cubicBezTo>
                <a:cubicBezTo>
                  <a:pt x="12026" y="7311"/>
                  <a:pt x="12026" y="7339"/>
                  <a:pt x="11981" y="7317"/>
                </a:cubicBezTo>
                <a:cubicBezTo>
                  <a:pt x="11959" y="7306"/>
                  <a:pt x="11905" y="7297"/>
                  <a:pt x="11881" y="7293"/>
                </a:cubicBezTo>
                <a:cubicBezTo>
                  <a:pt x="11795" y="7279"/>
                  <a:pt x="11687" y="7285"/>
                  <a:pt x="11633" y="7268"/>
                </a:cubicBezTo>
                <a:cubicBezTo>
                  <a:pt x="11633" y="7260"/>
                  <a:pt x="11633" y="7251"/>
                  <a:pt x="11633" y="7243"/>
                </a:cubicBezTo>
              </a:path>
              <a:path w="8063" h="4069">
                <a:moveTo>
                  <a:pt x="13593" y="11063"/>
                </a:moveTo>
                <a:cubicBezTo>
                  <a:pt x="13632" y="11063"/>
                  <a:pt x="13618" y="11046"/>
                  <a:pt x="13618" y="11013"/>
                </a:cubicBez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28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нтуан де Сент-Экзюпери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«Маленький принц»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95640" y="4724280"/>
            <a:ext cx="446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отрывки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ча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4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3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Толковый словарь С. И. Ожегов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начение сл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евственные ле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тронутые человек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klever_19[1]"/>
          <p:cNvPicPr/>
          <p:nvPr/>
        </p:nvPicPr>
        <p:blipFill>
          <a:blip r:embed="rId1"/>
          <a:stretch/>
        </p:blipFill>
        <p:spPr>
          <a:xfrm>
            <a:off x="4284720" y="1484280"/>
            <a:ext cx="4402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4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9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жунгл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проходимые заросли в болотистых местах тропических стр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6" descr="0913bc04e7bc9b7f6de50e3800acc58b"/>
          <p:cNvPicPr/>
          <p:nvPr/>
        </p:nvPicPr>
        <p:blipFill>
          <a:blip r:embed="rId1"/>
          <a:stretch/>
        </p:blipFill>
        <p:spPr>
          <a:xfrm>
            <a:off x="3780000" y="2060640"/>
            <a:ext cx="51368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олкова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567864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ъяснять что либ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2419"/>
          <p:cNvPicPr/>
          <p:nvPr/>
        </p:nvPicPr>
        <p:blipFill>
          <a:blip r:embed="rId1"/>
          <a:stretch/>
        </p:blipFill>
        <p:spPr>
          <a:xfrm>
            <a:off x="3635280" y="2679840"/>
            <a:ext cx="5508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ридж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зартная игра в кар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z001"/>
          <p:cNvPicPr/>
          <p:nvPr/>
        </p:nvPicPr>
        <p:blipFill>
          <a:blip r:embed="rId1"/>
          <a:stretch/>
        </p:blipFill>
        <p:spPr>
          <a:xfrm>
            <a:off x="4284720" y="314172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ольф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гр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мя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6" descr="b_5764golf"/>
          <p:cNvPicPr/>
          <p:nvPr/>
        </p:nvPicPr>
        <p:blipFill>
          <a:blip r:embed="rId1"/>
          <a:stretch/>
        </p:blipFill>
        <p:spPr>
          <a:xfrm>
            <a:off x="6227640" y="549360"/>
            <a:ext cx="271800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g117497"/>
          <p:cNvPicPr/>
          <p:nvPr/>
        </p:nvPicPr>
        <p:blipFill>
          <a:blip r:embed="rId2"/>
          <a:stretch/>
        </p:blipFill>
        <p:spPr>
          <a:xfrm>
            <a:off x="539640" y="306864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olf1"/>
          <p:cNvPicPr/>
          <p:nvPr/>
        </p:nvPicPr>
        <p:blipFill>
          <a:blip r:embed="rId3"/>
          <a:stretch/>
        </p:blipFill>
        <p:spPr>
          <a:xfrm>
            <a:off x="3348000" y="4221000"/>
            <a:ext cx="30481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дравомыслящий челов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467028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еловек, толково рассуждающ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j0299125"/>
          <p:cNvPicPr/>
          <p:nvPr/>
        </p:nvPicPr>
        <p:blipFill>
          <a:blip r:embed="rId1"/>
          <a:stretch/>
        </p:blipFill>
        <p:spPr>
          <a:xfrm>
            <a:off x="5148360" y="2421000"/>
            <a:ext cx="31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исунок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8" name="Picture 3" descr="Шляпа?"/>
          <p:cNvPicPr/>
          <p:nvPr/>
        </p:nvPicPr>
        <p:blipFill>
          <a:blip r:embed="rId1"/>
          <a:stretch/>
        </p:blipFill>
        <p:spPr>
          <a:xfrm>
            <a:off x="1763640" y="1844640"/>
            <a:ext cx="5545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франция на слайд"/>
          <p:cNvPicPr/>
          <p:nvPr/>
        </p:nvPicPr>
        <p:blipFill>
          <a:blip r:embed="rId1"/>
          <a:stretch/>
        </p:blipFill>
        <p:spPr>
          <a:xfrm>
            <a:off x="539640" y="260280"/>
            <a:ext cx="8066160" cy="627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Object 11"/>
          <p:cNvGraphicFramePr/>
          <p:nvPr/>
        </p:nvGraphicFramePr>
        <p:xfrm>
          <a:off x="6948360" y="620640"/>
          <a:ext cx="16448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48360" y="620640"/>
                    <a:ext cx="16448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9"/>
          <p:cNvSpPr/>
          <p:nvPr/>
        </p:nvSpPr>
        <p:spPr>
          <a:xfrm>
            <a:off x="7093080" y="2708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Object 12"/>
          <p:cNvGraphicFramePr/>
          <p:nvPr/>
        </p:nvGraphicFramePr>
        <p:xfrm>
          <a:off x="2987640" y="4092480"/>
          <a:ext cx="1655640" cy="132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4092480"/>
                    <a:ext cx="165564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10"/>
          <p:cNvSpPr/>
          <p:nvPr/>
        </p:nvSpPr>
        <p:spPr>
          <a:xfrm>
            <a:off x="3274920" y="443700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Ink 4"/>
          <p:cNvSpPr/>
          <p:nvPr/>
        </p:nvSpPr>
        <p:spPr>
          <a:xfrm>
            <a:off x="5224320" y="15350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4511" y="4266"/>
                </a:moveTo>
                <a:lnTo>
                  <a:pt x="14511" y="4266"/>
                </a:lnTo>
              </a:path>
            </a:pathLst>
          </a:custGeom>
          <a:noFill/>
          <a:ln cap="rnd" w="34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исунок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Picture 3" descr="Удав!"/>
          <p:cNvPicPr/>
          <p:nvPr/>
        </p:nvPicPr>
        <p:blipFill>
          <a:blip r:embed="rId1"/>
          <a:stretch/>
        </p:blipFill>
        <p:spPr>
          <a:xfrm>
            <a:off x="2529000" y="1932120"/>
            <a:ext cx="43434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         </a:t>
            </a: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Прочитай пословиц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ружба – как стекло: разобьешь не склеиш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е имей 100 рублей, а имей 100 друзе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007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 Black"/>
              </a:rPr>
              <a:t>Не привыкайте к чудесам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 Black"/>
              </a:rPr>
              <a:t>Дивитесь им, дивитес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 Black"/>
              </a:rPr>
              <a:t>Не привыкайте к небес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 Black"/>
              </a:rPr>
              <a:t>Глазами к нам тяните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 Black"/>
              </a:rPr>
              <a:t>Приглядывайтесь к облакам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 Black"/>
              </a:rPr>
              <a:t>Прислушивайтесь к птиц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 Black"/>
              </a:rPr>
              <a:t>Прикладывайтесь к родникам,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 Black"/>
              </a:rPr>
              <a:t>Ничто не повтори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95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4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85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05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8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Безымянный"/>
          <p:cNvPicPr/>
          <p:nvPr/>
        </p:nvPicPr>
        <p:blipFill>
          <a:blip r:embed="rId1"/>
          <a:stretch/>
        </p:blipFill>
        <p:spPr>
          <a:xfrm>
            <a:off x="1547640" y="404640"/>
            <a:ext cx="60962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дился во Фран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9 июня 1900 г в городе Лионе в семье дворянина родился мальчи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i-main-pic" descr="Картинка 5 из 1017"/>
          <p:cNvPicPr/>
          <p:nvPr/>
        </p:nvPicPr>
        <p:blipFill>
          <a:blip r:embed="rId1"/>
          <a:stretch/>
        </p:blipFill>
        <p:spPr>
          <a:xfrm>
            <a:off x="4788000" y="1557360"/>
            <a:ext cx="40464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25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 возрасте четырех лет потерял отц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6" descr="119722260704720500[1]"/>
          <p:cNvPicPr/>
          <p:nvPr/>
        </p:nvPicPr>
        <p:blipFill>
          <a:blip r:embed="rId1"/>
          <a:stretch/>
        </p:blipFill>
        <p:spPr>
          <a:xfrm>
            <a:off x="1763640" y="1989000"/>
            <a:ext cx="1811520" cy="2519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малой"/>
          <p:cNvPicPr/>
          <p:nvPr/>
        </p:nvPicPr>
        <p:blipFill>
          <a:blip r:embed="rId2"/>
          <a:stretch/>
        </p:blipFill>
        <p:spPr>
          <a:xfrm>
            <a:off x="5148360" y="3068640"/>
            <a:ext cx="19508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 семье его называли « Король Солнце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3929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етств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был мечтателем, играл на скрипке, писал стих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сп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вместе"/>
          <p:cNvPicPr/>
          <p:nvPr/>
        </p:nvPicPr>
        <p:blipFill>
          <a:blip r:embed="rId1"/>
          <a:stretch/>
        </p:blipFill>
        <p:spPr>
          <a:xfrm>
            <a:off x="3924360" y="2205000"/>
            <a:ext cx="5219640" cy="2963880"/>
          </a:xfrm>
          <a:prstGeom prst="rect">
            <a:avLst/>
          </a:prstGeom>
          <a:ln w="0">
            <a:noFill/>
          </a:ln>
        </p:spPr>
      </p:pic>
      <p:sp>
        <p:nvSpPr>
          <p:cNvPr id="116" name="Oval 12"/>
          <p:cNvSpPr/>
          <p:nvPr/>
        </p:nvSpPr>
        <p:spPr>
          <a:xfrm>
            <a:off x="6877080" y="2060640"/>
            <a:ext cx="1150920" cy="194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Ink 9"/>
          <p:cNvSpPr/>
          <p:nvPr/>
        </p:nvSpPr>
        <p:spPr>
          <a:xfrm>
            <a:off x="4537080" y="5054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2601" y="14039"/>
                </a:moveTo>
                <a:lnTo>
                  <a:pt x="12601" y="14039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95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ранцузский писатель и профессиональный лётчик.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Picture 6" descr="200px-Exupery[1]"/>
          <p:cNvPicPr/>
          <p:nvPr/>
        </p:nvPicPr>
        <p:blipFill>
          <a:blip r:embed="rId1"/>
          <a:srcRect l="0" t="0" r="12047" b="0"/>
          <a:stretch/>
        </p:blipFill>
        <p:spPr>
          <a:xfrm>
            <a:off x="4643280" y="2060640"/>
            <a:ext cx="3198960" cy="424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p_f"/>
          <p:cNvPicPr/>
          <p:nvPr/>
        </p:nvPicPr>
        <p:blipFill>
          <a:blip r:embed="rId2"/>
          <a:stretch/>
        </p:blipFill>
        <p:spPr>
          <a:xfrm>
            <a:off x="1042920" y="2060640"/>
            <a:ext cx="32004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6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6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амая известная книга «Маленький принц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6" descr="300px-Le_petit_prince[1]"/>
          <p:cNvPicPr/>
          <p:nvPr/>
        </p:nvPicPr>
        <p:blipFill>
          <a:blip r:embed="rId1"/>
          <a:stretch/>
        </p:blipFill>
        <p:spPr>
          <a:xfrm>
            <a:off x="2556000" y="2060640"/>
            <a:ext cx="3456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1900 – 1944 гг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50920" y="1844280"/>
            <a:ext cx="7632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зюпери погиб в 1944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ремя Второй мировой войн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выполнении боевого зад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6" descr="091b5218b0230d7e335fdc0ec347849e"/>
          <p:cNvPicPr/>
          <p:nvPr/>
        </p:nvPicPr>
        <p:blipFill>
          <a:blip r:embed="rId1"/>
          <a:stretch/>
        </p:blipFill>
        <p:spPr>
          <a:xfrm>
            <a:off x="5519880" y="4005360"/>
            <a:ext cx="36241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лючевые сло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2880" y="1773000"/>
            <a:ext cx="8510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Летчи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устыня Саха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ломался мотор самоле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еобыкновенный малы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7:40:20Z</dcterms:created>
  <dc:creator>Виктор</dc:creator>
  <dc:description/>
  <dc:language>en-US</dc:language>
  <cp:lastModifiedBy>Якушина Екатерина</cp:lastModifiedBy>
  <dcterms:modified xsi:type="dcterms:W3CDTF">2010-06-14T13:15:07Z</dcterms:modified>
  <cp:revision>13</cp:revision>
  <dc:subject/>
  <dc:title>Антуан де Сент-Экзюпери</dc:title>
</cp:coreProperties>
</file>